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3F1-4B9E-4093-BA3C-C549841E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5DF-18CE-4B2A-B206-88497FF5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4F6-26BE-4D2A-A4DE-DCDC9B7B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29F-F507-4BC2-9D7D-CBD369AD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F752-2075-4AEB-8F47-1C7403A5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91EB-25A2-4395-AA9E-2123424C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FB72-ADFA-4605-AB40-505DD762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5C28-F314-4E82-9229-E9B6677A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9264-C0E9-4308-90DA-04DC6AAD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6515-7303-4438-861D-CC125163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D2DD-B363-47F5-8D96-02B5231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403-BE91-47C9-A81D-E700FF22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6584-A08F-4264-90E9-A9D239C1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7744-C186-4F98-A250-40E51E8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5556-32EF-4589-BFAA-DF36BF5E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46AC-33F7-4BA8-905F-8A90E2AE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467B-2E24-48D3-82EE-668D83CA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16C-117E-4047-86D6-23D9F3AA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270-58DB-468B-94BF-F026EAFD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1C9-9766-415E-AF1D-2DC1ABA2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290-3DA3-43B2-A496-91217C80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B61-E976-433D-85C7-945C82C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A2C-0AA5-438B-8314-4FD3D4BF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820-2B02-4421-B58F-B5FABBD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863D-C227-4393-99CF-D97EF24AB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3A3-3AAF-4CCF-8CDA-141B51AC6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216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PLANTS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only grow well in the right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emperatures that are too cold or too hot may affect how the plant gr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5337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1803240" cy="175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176688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932360" y="1844640"/>
            <a:ext cx="202248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1509480" cy="18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627280" y="3860640"/>
            <a:ext cx="1803600" cy="175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135396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1509480" cy="1881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692360" y="1125360"/>
            <a:ext cx="5344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Water is necessary for proper germination of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water for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Green plants need sunlight in to make their own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41720" cy="461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the minerals found in soil for healthy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357800" cy="44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Sammy</dc:creator>
  <dc:description/>
  <dc:language>en-US</dc:language>
  <cp:lastModifiedBy>Sammy</cp:lastModifiedBy>
  <dcterms:modified xsi:type="dcterms:W3CDTF">2002-04-18T19:04:51Z</dcterms:modified>
  <cp:revision>7</cp:revision>
  <dc:subject/>
  <dc:title>PLANTS</dc:title>
</cp:coreProperties>
</file>