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150-F955-42E3-B2DD-5E343F98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651-ECD3-4C6B-8640-6F3E416D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E8B-3497-46D4-A54A-B1E9B436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665-0B1D-4513-BE05-48FD183E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9ADB-4D6B-4C7E-A82C-527F5445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101C-C25C-4D3D-93D4-E8293187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D1F8-1048-4D7B-9AF8-5266463F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8316-B9BC-45A0-891D-5AF92AF0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F1F-DC55-4BA1-8B5A-5D706E5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1DE8-FC30-4C8E-BB97-2458F63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391A-9749-4C6A-A3F1-254B065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90D-D3C0-4872-8893-44C194C3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0978-2D24-43CE-9867-5324D97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469C-D383-422F-974B-1DA97BBE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1B6D-8355-4BEB-B513-9A1C487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E8C2-4D9D-44BC-85ED-5C3569DF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9882-5FFA-4B64-A6C3-88393247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9EB-F103-44FE-9E60-621E1674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6B1-5535-42CA-90FA-95DADECE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9AA-D93F-4B91-B805-D838D60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2B4-1ED6-4F8B-AEA2-A755F39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BC7-51EF-41E6-ABA6-EE9B8E7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2D2-8A4D-4F86-9A55-1F5D0B4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E2F-BD4C-49E1-93A5-F4C5CCA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1ECE-D5DA-4F5E-8A48-BEEC2325A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8A29-D699-45AF-9D0D-B6D36D2B4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Sammy</cp:lastModifiedBy>
  <dcterms:modified xsi:type="dcterms:W3CDTF">2002-04-18T19:04:51Z</dcterms:modified>
  <cp:revision>7</cp:revision>
  <dc:subject/>
  <dc:title>PLANTS</dc:title>
</cp:coreProperties>
</file>