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0889-739C-460C-8E29-FE339825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E193-E3BF-430E-856D-64D67F13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B3E1-BB1D-4EC6-A404-124755AF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A5F-2944-475B-84B6-C33C13C9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BE66-D11D-4A0B-B3BA-57B7AAAB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BFA0-6798-48BD-B916-C05EE837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9BC5-CAFE-4935-8581-8E15B934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578D-8A22-426F-97D0-444859A5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D991-EDA1-4484-B389-FFC3B440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4BE9-3EC1-4D62-81D2-B667B831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CC49-F0C0-4402-A6DF-46E11C9A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6D9-A343-4FB6-9239-CE67C870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C535-EA0C-4FC5-A584-77E8C99A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F7DA-0663-49CA-85B4-148B696C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49D2-1456-4A60-A77B-4E9FADC5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76E7-F615-4756-B24D-66006E1F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DAAE-5D3E-4252-9001-454CA333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A80-0DB4-4A62-BD4A-3DEDDFC3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20CD-030D-49DF-8979-D5B2E7CB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FD1-10DD-4D89-A280-26B06BCC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9B7E-8742-48C0-949C-4B712BB9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AE8-0CB6-49E5-B422-F3D31EE9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186-EB51-406E-ACE9-963786E0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930-D3EE-493F-9D40-0FA65EF1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64E5-5095-47A9-9E44-1C2294C638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14CC-873E-4573-8E98-4D1DC83475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348000" y="2565360"/>
            <a:ext cx="2160720" cy="2778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63748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PLANTS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33"/>
                </a:solidFill>
                <a:latin typeface="Comic Sans MS"/>
              </a:rPr>
              <a:t>WARMTH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only grow well in the right condi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Temperatures that are too cold or too hot may affect how the plant gro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533760" cy="44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32000" y="4365720"/>
            <a:ext cx="1803240" cy="1758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1766880" cy="1766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932360" y="1844640"/>
            <a:ext cx="202248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148360" y="4365720"/>
            <a:ext cx="1509480" cy="18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627280" y="3860640"/>
            <a:ext cx="1803600" cy="1758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1353960" cy="1790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788000" y="3716280"/>
            <a:ext cx="1509480" cy="1881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1692360" y="1125360"/>
            <a:ext cx="53449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0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Water is necessary for proper germination of see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need water for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700440" cy="3700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Comic Sans MS"/>
              </a:rPr>
              <a:t>LIGH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68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68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LIGH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Green plants need sunlight in to make their own f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041720" cy="4618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96600"/>
                </a:solidFill>
                <a:latin typeface="Comic Sans MS"/>
              </a:rPr>
              <a:t>NUTRIENTS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68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68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6600"/>
                </a:solidFill>
                <a:latin typeface="Comic Sans MS"/>
              </a:rPr>
              <a:t>NUTRIE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need the minerals found in soil for healthy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357800" cy="449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WARMTH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2:59:38Z</dcterms:created>
  <dc:creator>Sammy</dc:creator>
  <dc:description/>
  <dc:language>en-US</dc:language>
  <cp:lastModifiedBy>Sammy</cp:lastModifiedBy>
  <dcterms:modified xsi:type="dcterms:W3CDTF">2002-04-18T19:04:51Z</dcterms:modified>
  <cp:revision>7</cp:revision>
  <dc:subject/>
  <dc:title>PLANTS</dc:title>
</cp:coreProperties>
</file>