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52C-966F-4454-B346-00DE9A71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29D-1A9C-4815-BD0E-F0794DC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41A-6EBB-4A8B-AD9F-7D7FA225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709-AB1A-46FA-877B-8D6BB94A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1B94-2472-4D7A-82FB-ECF62611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66FD-B68B-43C2-A801-B3DD5C5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60B-6803-465A-AE90-03C27D0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5C62-9EB5-4E11-883E-A25042A5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B99A-390D-4D6F-957D-08B1504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3B7-349B-4A80-BDC5-DF81E1B7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F48-A2DB-4601-843E-2B47B87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41-811D-4CD4-94F1-C54D139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F0B-2B59-47BC-8087-C9FECE6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1A18-CB48-487F-8A9E-0F5CAA1B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B6E-8727-4278-A3EA-BAF36CC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6851-44CB-4A7E-8671-DD6421AD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A07-4CCB-469D-81C0-5A6EB929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0B6-A168-44C1-8B8A-E12B4E8E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851-8702-463F-BA8E-FEFC99EA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105-5822-4B78-B1C0-1466212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64B-2E3E-4239-8410-0DE7A55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114-9D71-46FB-A26E-00C36EB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094-7B7F-4643-95EE-30F8073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2F1-07DF-4D07-A160-605167F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F2C-C546-4290-8521-89D0CB62B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344-E4B3-4328-82DD-31F553156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Sammy</cp:lastModifiedBy>
  <dcterms:modified xsi:type="dcterms:W3CDTF">2002-04-18T19:04:51Z</dcterms:modified>
  <cp:revision>7</cp:revision>
  <dc:subject/>
  <dc:title>PLANTS</dc:title>
</cp:coreProperties>
</file>