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10.gif" ContentType="image/gif"/>
  <Override PartName="/ppt/media/image7.gif" ContentType="image/gif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62C-9DEE-44A3-9548-BAAE9FE8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A88-369B-4984-8956-383D228A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943-0DF0-4431-B880-F3F43BB5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F9A-0592-4585-BB88-2868DD65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8F5-25A9-450A-933A-3B7090EC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025-AE0D-4836-9184-6D803D86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853-B955-45E7-A4AB-99943A05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133-A347-4AFD-AD14-7D689AD9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2C2-B26B-4213-AFC3-61AFBF98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014-8812-461C-BF91-9778ACE8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AAA-5232-44D6-B5A2-B6702137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2BB-59DB-43C4-B519-11BFE5AE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2AA0-3536-42CA-B8B0-72CFA0A01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049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ff"/>
                </a:solidFill>
                <a:latin typeface="Pea Sarah Lynne"/>
              </a:rPr>
              <a:t>The Parts of a Pl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77960" y="1066680"/>
            <a:ext cx="389916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8080" y="457200"/>
            <a:ext cx="72392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ook closely at you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 as we name th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ifferent par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95480" y="4952880"/>
            <a:ext cx="3429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533520"/>
            <a:ext cx="800100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raw the fours main parts of a plant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4769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880" y="60948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have we learnt today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127160" y="217476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39732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80ff"/>
              </a:buClr>
              <a:buFont typeface="Pea Sarah Qui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ff"/>
                </a:solidFill>
                <a:latin typeface="Pea Sarah Quick"/>
              </a:rPr>
              <a:t>We can label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ff"/>
                </a:solidFill>
                <a:latin typeface="Pea Sarah Quick"/>
              </a:rPr>
              <a:t>parts of a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666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62120" y="228600"/>
            <a:ext cx="4190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Next week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54100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ff"/>
                </a:solidFill>
                <a:latin typeface="Pea Sarah Quick"/>
              </a:rPr>
              <a:t>We will also find out that insects pollinate some flowers and discover how this is do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6606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ff"/>
                </a:solidFill>
                <a:latin typeface="Pea Sarah Quick"/>
              </a:rPr>
              <a:t>We will find out more about 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ff"/>
                </a:solidFill>
                <a:latin typeface="Pea Sarah Quick"/>
              </a:rPr>
              <a:t>flowering plants reprodu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304776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60948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will we learn today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127160" y="217476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27672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ff"/>
              </a:buClr>
              <a:buFont typeface="Pea Sarah Lynn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ff"/>
                </a:solidFill>
                <a:latin typeface="Pea Sarah Lynne"/>
              </a:rPr>
              <a:t>We will learn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ff"/>
                </a:solidFill>
                <a:latin typeface="Pea Sarah Lynne"/>
              </a:rPr>
              <a:t>label the four pa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ff"/>
                </a:solidFill>
                <a:latin typeface="Pea Sarah Lynne"/>
              </a:rPr>
              <a:t>of a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35719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09480"/>
            <a:ext cx="83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re are four main parts of a plant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828800"/>
            <a:ext cx="6257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Can you guess what they are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2341440" y="274320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131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09840" y="350532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3200" y="4267080"/>
            <a:ext cx="9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96880" y="502920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. 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16160" y="27432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7440" y="35053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80960" y="426708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76280" y="50292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6920" y="2514600"/>
            <a:ext cx="3027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3396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05280" y="228600"/>
            <a:ext cx="488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 at this pict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17600" y="6019920"/>
            <a:ext cx="70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label the parts of the pl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3809880"/>
            <a:ext cx="1676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roo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00800" y="342900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e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44792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av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00800" y="121932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4572000"/>
            <a:ext cx="144792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876920" y="3809880"/>
            <a:ext cx="1371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362320"/>
            <a:ext cx="76212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8840" y="17524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root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04920" y="3657600"/>
            <a:ext cx="167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roo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4648320"/>
            <a:ext cx="12193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25146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oots absorb water from the so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stem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28600" y="373392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e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4267080"/>
            <a:ext cx="53352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228600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tem helps to support the pl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leaf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04920" y="3962520"/>
            <a:ext cx="167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af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143000" y="3504960"/>
            <a:ext cx="9144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36232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leaves use sunlight to provide the plant with energ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flower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396252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523880" y="2590560"/>
            <a:ext cx="1143000" cy="144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25146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lower helps the plant to reprodu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609480"/>
            <a:ext cx="800100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ook carefully at your flower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ith your partn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402000" cy="3809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" y="2590920"/>
            <a:ext cx="230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es it smell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2666880"/>
            <a:ext cx="260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can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211120" cy="2095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248520" y="3809880"/>
            <a:ext cx="23367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6T09:58:16Z</dcterms:created>
  <dc:creator>Tim</dc:creator>
  <dc:description/>
  <dc:language>en-US</dc:language>
  <cp:lastModifiedBy>mandy trei</cp:lastModifiedBy>
  <dcterms:modified xsi:type="dcterms:W3CDTF">2010-06-06T20:49:28Z</dcterms:modified>
  <cp:revision>26</cp:revision>
  <dc:subject/>
  <dc:title>PowerPoint Presentation</dc:title>
</cp:coreProperties>
</file>