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10.gif" ContentType="image/gif"/>
  <Override PartName="/ppt/media/image7.gif" ContentType="image/gif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4F84-2697-49F8-B9FB-1E1279B7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898-B947-4092-8DBB-38ED9BDF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4772-DEB5-4CB4-99E1-A9914F14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6FAC-AF84-4A23-9C94-51EF6174F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7A0-A9D5-48C9-B597-69AE7FE8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BD5D-EA63-48F1-AD79-181F3475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C0B7-05F1-4B43-8813-FE6A8775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4CD0-8FDA-46C5-988B-FAA04A1D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72A4-AF2B-4F07-B47B-430CB810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ACA2-8E80-4812-A44D-146B9A89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577C-0E9F-43CE-8466-937D78BF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DC1A-AF9E-4B71-B988-B441E749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E488-AFB1-448C-B2C7-A71AC60B4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049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ff"/>
                </a:solidFill>
                <a:latin typeface="Pea Sarah Lynne"/>
              </a:rPr>
              <a:t>The Parts of a Pl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77960" y="1066680"/>
            <a:ext cx="3899160" cy="54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8080" y="457200"/>
            <a:ext cx="723924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ook closely at you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flower as we name th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different par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895480" y="4952880"/>
            <a:ext cx="34290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533520"/>
            <a:ext cx="8001000" cy="66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Draw the fours main parts of a plant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4769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80880" y="609480"/>
            <a:ext cx="8229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have we learnt today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1127160" y="2174760"/>
            <a:ext cx="527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397320"/>
            <a:ext cx="518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80ff"/>
              </a:buClr>
              <a:buFont typeface="Pea Sarah Qui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ff"/>
                </a:solidFill>
                <a:latin typeface="Pea Sarah Quick"/>
              </a:rPr>
              <a:t>We can label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ff"/>
                </a:solidFill>
                <a:latin typeface="Pea Sarah Quick"/>
              </a:rPr>
              <a:t>parts of a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666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62120" y="228600"/>
            <a:ext cx="4190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Next week..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541008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ff"/>
                </a:solidFill>
                <a:latin typeface="Pea Sarah Quick"/>
              </a:rPr>
              <a:t>We will also find out that insects pollinate some flowers and discover how this is don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6606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ff"/>
                </a:solidFill>
                <a:latin typeface="Pea Sarah Quick"/>
              </a:rPr>
              <a:t>We will find out more about h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ff"/>
                </a:solidFill>
                <a:latin typeface="Pea Sarah Quick"/>
              </a:rPr>
              <a:t>flowering plants reprodu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8120" y="2590920"/>
            <a:ext cx="304776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7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80880" y="609480"/>
            <a:ext cx="8229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will we learn today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1127160" y="2174760"/>
            <a:ext cx="527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27672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ff"/>
              </a:buClr>
              <a:buFont typeface="Pea Sarah Lynn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ff"/>
                </a:solidFill>
                <a:latin typeface="Pea Sarah Lynne"/>
              </a:rPr>
              <a:t>We will learn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ff"/>
                </a:solidFill>
                <a:latin typeface="Pea Sarah Lynne"/>
              </a:rPr>
              <a:t>label the four pa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ff"/>
                </a:solidFill>
                <a:latin typeface="Pea Sarah Lynne"/>
              </a:rPr>
              <a:t>of a pl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35719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609480"/>
            <a:ext cx="8353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There are four main parts of a plant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828800"/>
            <a:ext cx="62578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Can you guess what they are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2341440" y="274320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13160" y="293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09840" y="350532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83200" y="4267080"/>
            <a:ext cx="92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96880" y="502920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. 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16160" y="27432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o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87440" y="3505320"/>
            <a:ext cx="10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80960" y="4267080"/>
            <a:ext cx="14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76280" y="502920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06920" y="2514600"/>
            <a:ext cx="3027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93396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05280" y="228600"/>
            <a:ext cx="488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ook at this pict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17600" y="6019920"/>
            <a:ext cx="70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you label the parts of the pla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2120" y="3809880"/>
            <a:ext cx="16761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roo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400800" y="3429000"/>
            <a:ext cx="1676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stem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1447920"/>
            <a:ext cx="190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eav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400800" y="1219320"/>
            <a:ext cx="2057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flow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2514600" y="4572000"/>
            <a:ext cx="144792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876920" y="3809880"/>
            <a:ext cx="1371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2362320"/>
            <a:ext cx="76212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028840" y="175248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33520" y="685800"/>
            <a:ext cx="7715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is the function of the root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952880" cy="4191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304920" y="3657600"/>
            <a:ext cx="1676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roo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4648320"/>
            <a:ext cx="12193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25146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roots absorb water from the soi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33520" y="685800"/>
            <a:ext cx="7715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is the function of the stem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952880" cy="4191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228600" y="3733920"/>
            <a:ext cx="1676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stem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4267080"/>
            <a:ext cx="53352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228600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tem helps to support the pla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533520" y="685800"/>
            <a:ext cx="7715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is the function of the leaf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952880" cy="4191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04920" y="3962520"/>
            <a:ext cx="1676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eaf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143000" y="3504960"/>
            <a:ext cx="91440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2362320"/>
            <a:ext cx="342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leaves use sunlight to provide the plant with energ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685800"/>
            <a:ext cx="7715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is the function of the flower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952880" cy="4191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3962520"/>
            <a:ext cx="1676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flow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523880" y="2590560"/>
            <a:ext cx="1143000" cy="144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25146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flower helps the plant to reprodu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3520" y="609480"/>
            <a:ext cx="800100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ook carefully at your flower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ith your partn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3402000" cy="3809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28600" y="2590920"/>
            <a:ext cx="230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does it smell l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24480" y="2666880"/>
            <a:ext cx="260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can you s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2211120" cy="2095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248520" y="3809880"/>
            <a:ext cx="23367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6T09:58:16Z</dcterms:created>
  <dc:creator>Tim</dc:creator>
  <dc:description/>
  <dc:language>en-US</dc:language>
  <cp:lastModifiedBy>mandy trei</cp:lastModifiedBy>
  <dcterms:modified xsi:type="dcterms:W3CDTF">2010-06-06T20:49:28Z</dcterms:modified>
  <cp:revision>26</cp:revision>
  <dc:subject/>
  <dc:title>PowerPoint Presentation</dc:title>
</cp:coreProperties>
</file>