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10.gif" ContentType="image/gif"/>
  <Override PartName="/ppt/media/image7.gif" ContentType="image/gi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92B-387E-40A6-AC48-85F8D2BD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8D4-3974-4861-851C-D27D64F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073-F11D-4A4F-A8BF-33E14473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2C7-8171-4D10-9E97-F1E47D24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E8C-56C7-4C75-8E79-AA7F367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3A9-707F-462E-A4D9-FFAEC463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06C-FD66-4E60-A20D-449F5F9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C2D-EA70-4CBD-95EE-E28CA988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7D2-8F92-43F3-B25A-AB1C6D44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14B-0DFC-4ECA-8768-4D61806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012-EA10-400E-B345-3F2FF4B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C32-D4E9-423E-94DC-9D9E4F2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7F8E-CD14-4D92-A2C7-F6259CC77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ff"/>
                </a:solidFill>
                <a:latin typeface="Pea Sarah Lynne"/>
              </a:rPr>
              <a:t>The Parts of a 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7960" y="1066680"/>
            <a:ext cx="38991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8080" y="45720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losely at y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 as we name t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3429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533520"/>
            <a:ext cx="8001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raw the fours main parts of a plant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769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have we learnt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39732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ff"/>
              </a:buClr>
              <a:buFont typeface="Pea Sarah Qui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We can label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parts of a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666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22860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xt week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Pea Sarah Quick"/>
              </a:rPr>
              <a:t>We will also find out that insects pollinate some flowers and discover how this is d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60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We will find out more about 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flowering plants reprod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will we learn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76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ff"/>
              </a:buClr>
              <a:buFont typeface="Pea Sarah Lyn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We will lear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label the four p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of a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71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3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re are four main parts of a plan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828800"/>
            <a:ext cx="625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you guess what they a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341440" y="2743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131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9840" y="35053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0" y="426708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96880" y="5029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6160" y="27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7440" y="3505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0960" y="42670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6280" y="50292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6920" y="2514600"/>
            <a:ext cx="3027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05280" y="22860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 at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7600" y="60199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label the parts of the pl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root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36576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64832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oots absorb water from the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stem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8600" y="37339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42670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em helps to support the pl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leaf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04920" y="396252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143000" y="350496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3623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aves use sunlight to provide the plant with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flower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39625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3880" y="2590560"/>
            <a:ext cx="114300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lower helps the plant to reprod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609480"/>
            <a:ext cx="8001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arefully at your flower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 your part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02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5909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it smell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66688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211120" cy="2095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336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9:58:16Z</dcterms:created>
  <dc:creator>Tim</dc:creator>
  <dc:description/>
  <dc:language>en-US</dc:language>
  <cp:lastModifiedBy>mandy trei</cp:lastModifiedBy>
  <dcterms:modified xsi:type="dcterms:W3CDTF">2010-06-06T20:49:28Z</dcterms:modified>
  <cp:revision>26</cp:revision>
  <dc:subject/>
  <dc:title>PowerPoint Presentation</dc:title>
</cp:coreProperties>
</file>