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10.gif" ContentType="image/gif"/>
  <Override PartName="/ppt/media/image7.gif" ContentType="image/gif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1EA-4919-44EA-ADF8-14A3A13E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521-B084-4E7C-832F-81B78F1B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1A5-8BD9-4D34-A641-9C886681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8ED-603F-4C7E-9E9C-A6436F89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704-117C-4727-ADD2-ACF3FA95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35B-1ED1-49FB-9212-AD997EA2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AA5-A7C4-4A51-B812-FE3E2CD3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B87-97F7-42A9-98B4-DF93148A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5C2-8FF7-4929-85A4-64B64665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697-3A89-4A88-9B3D-1ABB715A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30B-5DD0-42EE-80EA-E1E79F59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17C-FD53-4E6F-805A-C368434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9EF0-3BE8-4CF1-8B55-5283D5D2B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04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ff"/>
                </a:solidFill>
                <a:latin typeface="Pea Sarah Lynne"/>
              </a:rPr>
              <a:t>The Parts of a Pl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77960" y="1066680"/>
            <a:ext cx="389916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8080" y="457200"/>
            <a:ext cx="7239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losely at you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 as we name th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fferent par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95480" y="4952880"/>
            <a:ext cx="3429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533520"/>
            <a:ext cx="80010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raw the fours main parts of a plant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4769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have we learnt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39732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80ff"/>
              </a:buClr>
              <a:buFont typeface="Pea Sarah Qui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Pea Sarah Quick"/>
              </a:rPr>
              <a:t>We can label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Pea Sarah Quick"/>
              </a:rPr>
              <a:t>parts of a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666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62120" y="22860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ext week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4100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Pea Sarah Quick"/>
              </a:rPr>
              <a:t>We will also find out that insects pollinate some flowers and discover how this is do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6606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ff"/>
                </a:solidFill>
                <a:latin typeface="Pea Sarah Quick"/>
              </a:rPr>
              <a:t>We will find out more about 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ff"/>
                </a:solidFill>
                <a:latin typeface="Pea Sarah Quick"/>
              </a:rPr>
              <a:t>flowering plants reprodu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04776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will we learn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2767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ff"/>
              </a:buClr>
              <a:buFont typeface="Pea Sarah Lynn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We will lear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label the four pa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of a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35719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09480"/>
            <a:ext cx="83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re are four main parts of a plant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828800"/>
            <a:ext cx="6257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an you guess what they ar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2341440" y="27432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131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9840" y="35053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0" y="4267080"/>
            <a:ext cx="9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96880" y="502920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16160" y="27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7440" y="35053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0960" y="426708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76280" y="50292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6920" y="2514600"/>
            <a:ext cx="3027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3396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05280" y="228600"/>
            <a:ext cx="488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 at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17600" y="601992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label the parts of the pl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38098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00800" y="34290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44792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v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00800" y="121932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4572000"/>
            <a:ext cx="14479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876920" y="3809880"/>
            <a:ext cx="1371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362320"/>
            <a:ext cx="7621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8840" y="17524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root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4920" y="365760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4648320"/>
            <a:ext cx="12193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oots absorb water from the s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stem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28600" y="37339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4267080"/>
            <a:ext cx="53352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2860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em helps to support the pl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leaf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04920" y="396252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f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143000" y="3504960"/>
            <a:ext cx="9144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3623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eaves use sunlight to provide the plant with ener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flower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39625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523880" y="2590560"/>
            <a:ext cx="114300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lower helps the plant to reprodu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609480"/>
            <a:ext cx="80010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arefully at your flower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ith your partn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40200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2590920"/>
            <a:ext cx="230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it smell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2666880"/>
            <a:ext cx="260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211120" cy="2095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3367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09:58:16Z</dcterms:created>
  <dc:creator>Tim</dc:creator>
  <dc:description/>
  <dc:language>en-US</dc:language>
  <cp:lastModifiedBy>mandy trei</cp:lastModifiedBy>
  <dcterms:modified xsi:type="dcterms:W3CDTF">2010-06-06T20:49:28Z</dcterms:modified>
  <cp:revision>26</cp:revision>
  <dc:subject/>
  <dc:title>PowerPoint Presentation</dc:title>
</cp:coreProperties>
</file>